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10.jpeg" ContentType="image/jpeg"/>
  <Override PartName="/ppt/media/image5.jpeg" ContentType="image/jpeg"/>
  <Override PartName="/ppt/media/image32.png" ContentType="image/png"/>
  <Override PartName="/ppt/media/image2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8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36.jpeg" ContentType="image/jpeg"/>
  <Override PartName="/ppt/media/image20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6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1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30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41.png" ContentType="image/png"/>
  <Override PartName="/ppt/media/image42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EABD-C7FD-4B6A-B93D-4A2446520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DD94-020A-464A-91C2-0264227B1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674A-6BE5-44A7-9E8C-48363C339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9C3F-4C71-4236-87C8-A5F92B739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D9EC-3D60-4C6A-9784-F814D0EAE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AA7A-2C6D-48E4-A7C2-9DA2CDDF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7FAE-6CFA-4B93-97E0-7A5FDD904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5FFF-8BC8-4CE3-815C-93577FB9C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9D96-FAC5-4DDF-8308-3FBEA3FBC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4D65-C15B-4D2B-A116-FD09808EC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67FA-1201-46BE-BCC9-BC4ADCD60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C198-B0A3-4955-A7A2-A9DE20041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&amp;f"/>
          <p:cNvPicPr/>
          <p:nvPr/>
        </p:nvPicPr>
        <p:blipFill>
          <a:blip r:embed="rId2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148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- </a:t>
            </a:r>
            <a:fld id="{16E50404-DFBF-4FD8-99B5-47EDC26D5549}" type="slidenum"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Основы практического брендинга </a:t>
            </a: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&amp;f"/>
          <p:cNvPicPr/>
          <p:nvPr/>
        </p:nvPicPr>
        <p:blipFill>
          <a:blip r:embed="rId3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1765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актического брендин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8028000" y="6267600"/>
            <a:ext cx="11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2200" y="1773360"/>
            <a:ext cx="849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может быть предложено на рынке для привлечения внимания, ознакомления, использования или потребления и что может удовлетворить чью-либо потре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ми могут быть физические объекты, услуги, мест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н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8147160" y="6335640"/>
            <a:ext cx="99684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026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57120" y="2254320"/>
            <a:ext cx="842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– это практические выгоды от использован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95280" y="1328760"/>
            <a:ext cx="655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бренда та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как «Reebok» рациональны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г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должны быть априори – он должен быть прочный, он должен быть ноский, он должен быть легкий, он должен быть красивы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395280" y="3860640"/>
            <a:ext cx="662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 в «IKEA» отличаются приятным современным дизайном, функциональностью (самостоятельная сборка мебели) и отличным качеством для разумной ц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reebok"/>
          <p:cNvPicPr/>
          <p:nvPr/>
        </p:nvPicPr>
        <p:blipFill>
          <a:blip r:embed="rId1"/>
          <a:stretch/>
        </p:blipFill>
        <p:spPr>
          <a:xfrm>
            <a:off x="6948360" y="1625760"/>
            <a:ext cx="1873440" cy="1011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ikea-groot"/>
          <p:cNvPicPr/>
          <p:nvPr/>
        </p:nvPicPr>
        <p:blipFill>
          <a:blip r:embed="rId2"/>
          <a:stretch/>
        </p:blipFill>
        <p:spPr>
          <a:xfrm>
            <a:off x="7020000" y="4152960"/>
            <a:ext cx="1722240" cy="1292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Рисунок 1" descr=""/>
          <p:cNvPicPr/>
          <p:nvPr/>
        </p:nvPicPr>
        <p:blipFill>
          <a:blip r:embed="rId3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92120" y="11826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62120" y="113976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 – эмоциональные удовлетворения, которые получает потребитель от использования этого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6"/>
          <p:cNvGrpSpPr/>
          <p:nvPr/>
        </p:nvGrpSpPr>
        <p:grpSpPr>
          <a:xfrm>
            <a:off x="581040" y="2781360"/>
            <a:ext cx="8137440" cy="2345400"/>
            <a:chOff x="581040" y="2781360"/>
            <a:chExt cx="8137440" cy="2345400"/>
          </a:xfrm>
        </p:grpSpPr>
        <p:sp>
          <p:nvSpPr>
            <p:cNvPr id="730" name="Text Box 7"/>
            <p:cNvSpPr/>
            <p:nvPr/>
          </p:nvSpPr>
          <p:spPr>
            <a:xfrm>
              <a:off x="2236680" y="3357360"/>
              <a:ext cx="39618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Иде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Псих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Социаль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Культур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581040" y="2781360"/>
              <a:ext cx="813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4 типа эмоционального удовлетворения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Рисунок 9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79280" y="335124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неральная вода «Святой источник», лозунг «В каждом из нас есть частица святого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триотиз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иво «Три богатыря», лозунг: «Знай наше пиво!» Эмоциональная ценность: наше (российское) пиво – лучшее пиво в мир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коло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кусственный мех или вегетарианский ресторан – охрана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рав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n Un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– не просто перевод денег, а забота о родителях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исутствует от рекламы кондитерских изделий (ТМ «Эстье») до рекламы мыла (мыло «Каме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743200" y="1201680"/>
            <a:ext cx="3629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2057400" y="1341360"/>
            <a:ext cx="5683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е удовл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ое стиму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200160" y="3182760"/>
            <a:ext cx="87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а программных продуктов (я буду работа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лее эффектив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иж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ные кампании бритв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llet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всегда были связаны с высшими достижениями в своей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е удовлетвор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Эта эмоциональная ценность в своих разных проявлениях присутствует у многих брендов: от женских прокладок (мне удобно), до продуктов питания (мне нравится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ственное стимулирова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ьютеры «Формоза». Купите ребенку компьютер, и ребенок будет лучше учиться! Продукты с йодом («Йодомарин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468360" y="328932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адлежность к групп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дание автомобилем «Мерседес» говорит больше о статусе водителя, чем о его водительском масте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во «Золотая бочка». Надо чаще встречаться! Альфа-банк, лозунг «Это мой банк», Торговый дом «Айсберг» (бытовая техника), лозунг «Давайте дружить домам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в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ая марка «Мечта хозяйки» – эксплуатация персонажей Катерины и Георгия из фильма «Москва слезам не вер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рговая марка «Моя семья» и этим все сказа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иво «Тинькофф». Лозунг: «Он один так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981080" y="1130400"/>
            <a:ext cx="525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ь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395280" y="33242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коны (символы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сероксы от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роял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nwa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которые уже выпускаются пару веков – это символы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ллектуаль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процессор «Пентиум» компании «Интел». Многие торговые марки, производящие компью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тоциклы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ley Davids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дух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овый стату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утбольные клубы «Манчестер Юнайтед» и «Спартак» – культовые ид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900000" y="1413000"/>
            <a:ext cx="74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коны (симв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хов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овы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16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495360" y="14875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– эта модель позволяет маркетологу лучше понять, какими качествами должен быть наделен бре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495360" y="28576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модель, которую создают маркетол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а не «живет» в сознании потребител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1295280"/>
            <a:ext cx="4572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варный знак – обозначение, способное отличать товары и услуги одних юридических или физических лиц от однородных товаров и от услуг других юридических или физ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Три воды"/>
          <p:cNvPicPr/>
          <p:nvPr/>
        </p:nvPicPr>
        <p:blipFill>
          <a:blip r:embed="rId1"/>
          <a:stretch/>
        </p:blipFill>
        <p:spPr>
          <a:xfrm>
            <a:off x="5162400" y="1368360"/>
            <a:ext cx="380232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380880" y="990720"/>
            <a:ext cx="707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лина Блан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енькая усердная хозяйка в возрасте. Очень любит своего мужа и своих детей. Ей нравится приготовить для своей семьи что-то вкусненькое. У нее есть свои кулинарные секр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6" descr="Галина Бланка"/>
          <p:cNvPicPr/>
          <p:nvPr/>
        </p:nvPicPr>
        <p:blipFill>
          <a:blip r:embed="rId1"/>
          <a:stretch/>
        </p:blipFill>
        <p:spPr>
          <a:xfrm>
            <a:off x="7451640" y="1100160"/>
            <a:ext cx="1441440" cy="13921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7"/>
          <p:cNvSpPr/>
          <p:nvPr/>
        </p:nvSpPr>
        <p:spPr>
          <a:xfrm>
            <a:off x="395280" y="3852720"/>
            <a:ext cx="838188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ный, мужественный человек, который выбирает лучшее в одежде, обуви и во всем остальном. Он заботится о своем здоровье, стремится к совершенству, готов к иннов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8"/>
          <p:cNvGrpSpPr/>
          <p:nvPr/>
        </p:nvGrpSpPr>
        <p:grpSpPr>
          <a:xfrm>
            <a:off x="7236000" y="3500280"/>
            <a:ext cx="1728720" cy="863640"/>
            <a:chOff x="7236000" y="3500280"/>
            <a:chExt cx="1728720" cy="863640"/>
          </a:xfrm>
        </p:grpSpPr>
        <p:pic>
          <p:nvPicPr>
            <p:cNvPr id="781" name="Picture 9" descr="Nike"/>
            <p:cNvPicPr/>
            <p:nvPr/>
          </p:nvPicPr>
          <p:blipFill>
            <a:blip r:embed="rId2"/>
            <a:stretch/>
          </p:blipFill>
          <p:spPr>
            <a:xfrm>
              <a:off x="7311240" y="350028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Rectangle 10"/>
            <p:cNvSpPr/>
            <p:nvPr/>
          </p:nvSpPr>
          <p:spPr>
            <a:xfrm>
              <a:off x="7236000" y="410508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11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57200" y="120492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611280" y="112536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– создать отношения, напоминающие личные. Бренд может выступать другом, наставником, консультантом, матерью, веселым приятелем, сыном и так дале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6" descr="3"/>
          <p:cNvPicPr/>
          <p:nvPr/>
        </p:nvPicPr>
        <p:blipFill>
          <a:blip r:embed="rId1"/>
          <a:stretch/>
        </p:blipFill>
        <p:spPr>
          <a:xfrm>
            <a:off x="3132000" y="2789280"/>
            <a:ext cx="3027600" cy="315432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Line 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96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33320" y="4508640"/>
            <a:ext cx="792504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жеское общение с сильным, мужественным человеком. Доверие его выбор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Nike8"/>
          <p:cNvPicPr/>
          <p:nvPr/>
        </p:nvPicPr>
        <p:blipFill>
          <a:blip r:embed="rId1"/>
          <a:stretch/>
        </p:blipFill>
        <p:spPr>
          <a:xfrm>
            <a:off x="2852640" y="1455840"/>
            <a:ext cx="5175360" cy="3268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nike1"/>
          <p:cNvPicPr/>
          <p:nvPr/>
        </p:nvPicPr>
        <p:blipFill>
          <a:blip r:embed="rId2"/>
          <a:stretch/>
        </p:blipFill>
        <p:spPr>
          <a:xfrm>
            <a:off x="611280" y="2205000"/>
            <a:ext cx="1296720" cy="1036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79520" y="1003320"/>
            <a:ext cx="8153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кружка"/>
          <p:cNvPicPr/>
          <p:nvPr/>
        </p:nvPicPr>
        <p:blipFill>
          <a:blip r:embed="rId1"/>
          <a:stretch/>
        </p:blipFill>
        <p:spPr>
          <a:xfrm>
            <a:off x="1835280" y="4365720"/>
            <a:ext cx="1871640" cy="17762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2971800" y="1066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 бренда служит для облегчения узнавания бренда. Символ бренда может обеспечивать целостность образа брен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7" descr="Таранов"/>
          <p:cNvPicPr/>
          <p:nvPr/>
        </p:nvPicPr>
        <p:blipFill>
          <a:blip r:embed="rId2"/>
          <a:stretch/>
        </p:blipFill>
        <p:spPr>
          <a:xfrm>
            <a:off x="179280" y="4581360"/>
            <a:ext cx="1487520" cy="15624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зайцы"/>
          <p:cNvPicPr/>
          <p:nvPr/>
        </p:nvPicPr>
        <p:blipFill>
          <a:blip r:embed="rId3"/>
          <a:stretch/>
        </p:blipFill>
        <p:spPr>
          <a:xfrm>
            <a:off x="-173160" y="1052640"/>
            <a:ext cx="2800440" cy="2066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мальборо"/>
          <p:cNvPicPr/>
          <p:nvPr/>
        </p:nvPicPr>
        <p:blipFill>
          <a:blip r:embed="rId4"/>
          <a:stretch/>
        </p:blipFill>
        <p:spPr>
          <a:xfrm>
            <a:off x="6261120" y="2421000"/>
            <a:ext cx="2631960" cy="3816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0" descr="bilain"/>
          <p:cNvPicPr/>
          <p:nvPr/>
        </p:nvPicPr>
        <p:blipFill>
          <a:blip r:embed="rId5"/>
          <a:stretch/>
        </p:blipFill>
        <p:spPr>
          <a:xfrm>
            <a:off x="4138560" y="4724280"/>
            <a:ext cx="1873440" cy="133848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1"/>
          <p:cNvSpPr/>
          <p:nvPr/>
        </p:nvSpPr>
        <p:spPr>
          <a:xfrm>
            <a:off x="108000" y="30290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м может быть  лозунг, упаковка, логотип, цвет, персонаж, музыкальная фраза, благотворительная программа и так да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2" descr=""/>
          <p:cNvPicPr/>
          <p:nvPr/>
        </p:nvPicPr>
        <p:blipFill>
          <a:blip r:embed="rId6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220968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представляется как организация со своим специфическим набором ценностей, корпоративной культурой (в том числе поведение персонала), людьми и социальными программами (маркетинг событ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160" y="-27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социальные программ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28600" y="1108080"/>
            <a:ext cx="873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местная социальная программа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for goo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авиакомпании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tish Airway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совместно с детским фондом ООН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E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, который занимается проблемами детей во всем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Change for Good"/>
          <p:cNvPicPr/>
          <p:nvPr/>
        </p:nvPicPr>
        <p:blipFill>
          <a:blip r:embed="rId1"/>
          <a:stretch/>
        </p:blipFill>
        <p:spPr>
          <a:xfrm>
            <a:off x="5148360" y="2421000"/>
            <a:ext cx="3024000" cy="20556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Change for Good 1"/>
          <p:cNvPicPr/>
          <p:nvPr/>
        </p:nvPicPr>
        <p:blipFill>
          <a:blip r:embed="rId2"/>
          <a:stretch/>
        </p:blipFill>
        <p:spPr>
          <a:xfrm>
            <a:off x="1042920" y="242712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250920" y="4734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10 лет сотрудничества (1994 – 2004 годы) на пожертвования авиапассажиров было собрано 18 миллионов фунтов стерлингов, направленных на финансирование международных проектов Детского фонда ООН «UNICEF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160" y="741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поведение персонал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5"/>
          <p:cNvGrpSpPr/>
          <p:nvPr/>
        </p:nvGrpSpPr>
        <p:grpSpPr>
          <a:xfrm>
            <a:off x="6665760" y="3357720"/>
            <a:ext cx="1942920" cy="1209240"/>
            <a:chOff x="6665760" y="3357720"/>
            <a:chExt cx="1942920" cy="1209240"/>
          </a:xfrm>
        </p:grpSpPr>
        <p:pic>
          <p:nvPicPr>
            <p:cNvPr id="849" name="Picture 6" descr="Дисней"/>
            <p:cNvPicPr/>
            <p:nvPr/>
          </p:nvPicPr>
          <p:blipFill>
            <a:blip r:embed="rId1"/>
            <a:stretch/>
          </p:blipFill>
          <p:spPr>
            <a:xfrm>
              <a:off x="6919200" y="3357720"/>
              <a:ext cx="168948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Rectangle 7"/>
            <p:cNvSpPr/>
            <p:nvPr/>
          </p:nvSpPr>
          <p:spPr>
            <a:xfrm>
              <a:off x="6665760" y="4322160"/>
              <a:ext cx="506880" cy="24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8"/>
          <p:cNvSpPr/>
          <p:nvPr/>
        </p:nvSpPr>
        <p:spPr>
          <a:xfrm>
            <a:off x="395280" y="1074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ламное агентство «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ирует себя, как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агентство в городе, то в этом случа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ер этого агентства обязан дать клиенту телефоны фирм, которые оказывают рекламные услуги, не входящие в формат этого аген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395280" y="3573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служебных помещения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газинов компании «Walt Disney Co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дверях, ведущих в помещения, в которых персонал компании может встретиться с потребителями весит табличка «Сцена». Это подчеркивает «театральность» работы служащих этой компании со своими потреб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5991120" y="1158840"/>
            <a:ext cx="2521080" cy="647640"/>
            <a:chOff x="5991120" y="1158840"/>
            <a:chExt cx="2521080" cy="647640"/>
          </a:xfrm>
        </p:grpSpPr>
        <p:pic>
          <p:nvPicPr>
            <p:cNvPr id="854" name="Picture 11" descr="logo"/>
            <p:cNvPicPr/>
            <p:nvPr/>
          </p:nvPicPr>
          <p:blipFill>
            <a:blip r:embed="rId2"/>
            <a:stretch/>
          </p:blipFill>
          <p:spPr>
            <a:xfrm>
              <a:off x="6208560" y="1230120"/>
              <a:ext cx="21592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12"/>
            <p:cNvSpPr/>
            <p:nvPr/>
          </p:nvSpPr>
          <p:spPr>
            <a:xfrm>
              <a:off x="5991120" y="115884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Рисунок 13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43200" y="3683160"/>
            <a:ext cx="38098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у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8600" y="94284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400" indent="-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честве товарных знаков могут быть зарегистрированы словесные, изобразительные, объемные или другие обозначения или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-5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10522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24000" y="113364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бренд должен давать работникам организации дополнительную мотивацию, помимо получаемых ими денег. Определить работает ли бренд на уровне персонала компании можно с помощью следующих вопрос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539640" y="2616120"/>
            <a:ext cx="813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аш товар, услуга или компания дают потребителю? Станут ли мои друзья ценить меня больше за то, что я дела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зиционирована компания, в чем ее уникальность? Что она может сделать для того, чтобы я был особ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стиль этой компании? Каким, предполагается, я должен быть, и как это соотносится с тем, какой я сей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миссия этой компании? Буду ли я чувствовать, что делаю в своей жизни что-то важ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видение этой компании, какое у нее будущее? Какое будущее ожидает меня, если я буду и дальше работать с этими людь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ются ценности, исповедуемые этой компанией? Какие ценности исповедую я, сочетаются ли с ними ценности комп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одушевляет ли меня работа в этой компании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457200" y="123048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92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генда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5" descr="Healthy Choice1"/>
          <p:cNvPicPr/>
          <p:nvPr/>
        </p:nvPicPr>
        <p:blipFill>
          <a:blip r:embed="rId1"/>
          <a:stretch/>
        </p:blipFill>
        <p:spPr>
          <a:xfrm>
            <a:off x="395280" y="2216160"/>
            <a:ext cx="3024360" cy="114156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6"/>
          <p:cNvSpPr/>
          <p:nvPr/>
        </p:nvSpPr>
        <p:spPr>
          <a:xfrm>
            <a:off x="585720" y="2305080"/>
            <a:ext cx="855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1985   году  у президента компа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Agr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лучился сердечный приступ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пришлось сесть на диету. Он бы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, когда узнал, что многие продукты (в том числе и его компании) имеет высокое содержание жиров и ему противопоказаны, а выбор продуктов очень мал. Так появилась торговая марка замороженных готовых обедов 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Choic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ля людей, которые заботятся о своем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108000" y="48909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работки легенды бренда «Слобода» был использован следующий факт: «впервые в мире масло из семян подсолнечника отжал крепостной крестьянин Данила Бокарев в начале 19 ве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8" descr="Слобода"/>
          <p:cNvPicPr/>
          <p:nvPr/>
        </p:nvPicPr>
        <p:blipFill>
          <a:blip r:embed="rId2"/>
          <a:stretch/>
        </p:blipFill>
        <p:spPr>
          <a:xfrm>
            <a:off x="8244000" y="4653000"/>
            <a:ext cx="447480" cy="149076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9"/>
          <p:cNvSpPr/>
          <p:nvPr/>
        </p:nvSpPr>
        <p:spPr>
          <a:xfrm>
            <a:off x="254160" y="106848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бренда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развития брен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Рисунок 10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Picture 5" descr="5"/>
          <p:cNvPicPr/>
          <p:nvPr/>
        </p:nvPicPr>
        <p:blipFill>
          <a:blip r:embed="rId1"/>
          <a:stretch/>
        </p:blipFill>
        <p:spPr>
          <a:xfrm>
            <a:off x="0" y="155736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6"/>
          <p:cNvSpPr/>
          <p:nvPr/>
        </p:nvSpPr>
        <p:spPr>
          <a:xfrm>
            <a:off x="3419640" y="1020600"/>
            <a:ext cx="5400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компании «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рассказывает о изобретении листочков для заметок с клеевым слоем. Одному из инженеров компании якобы понадобилась записка, которая бы не падала, пока он поет в хо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легенда говорит о новаторстве, которое является главной чертой, присущей компании в це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457200" y="123048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611280" y="1125360"/>
            <a:ext cx="8064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– это набор рациональных и эмоциональных рекламных (информационных) сообщений (коммуникаций), который описывает целостный образ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можно условно разделить на две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"/>
          <p:cNvSpPr/>
          <p:nvPr/>
        </p:nvSpPr>
        <p:spPr>
          <a:xfrm>
            <a:off x="1258920" y="42433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антные со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е со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24000" y="96372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инантные сообщения несут основную информацию о бренде и используются для «закрепления» бренда в сознании потребителей. Позиционирование является основным доминантным сооб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утствующие сообщения нужны для создания целостного образа бренда в сознании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6" descr="McDonald’s"/>
          <p:cNvPicPr/>
          <p:nvPr/>
        </p:nvPicPr>
        <p:blipFill>
          <a:blip r:embed="rId1"/>
          <a:stretch/>
        </p:blipFill>
        <p:spPr>
          <a:xfrm>
            <a:off x="7256520" y="3716280"/>
            <a:ext cx="1790640" cy="20890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7"/>
          <p:cNvSpPr/>
          <p:nvPr/>
        </p:nvSpPr>
        <p:spPr>
          <a:xfrm>
            <a:off x="324000" y="35892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имера, «чистота» для сети фаст-фудо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является одной из важнейших рациональных выгод. Но не стоит на основе «чистоты» разрабатывать позиционирование или  доносить эту выгоду через СМИ; нужно сделать так, чтобы, посети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, потребитель это увидел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10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8"/>
          <p:cNvSpPr/>
          <p:nvPr/>
        </p:nvSpPr>
        <p:spPr>
          <a:xfrm>
            <a:off x="419040" y="1060560"/>
            <a:ext cx="83059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. Известные спортсмены и все, кто интересуется здоровьем и физической 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сия бренда. Производство первоклассной и модной  спортивной обуви и одежды, которая способствует улучшению качества жизни благодаря занятиям спортом. Спорт в повседневну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. Спортивные туфли, обеспечивающие высокие результаты, что основано на технологическом превосход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ценности бренда. Высокотехнологичная обувь, которая помогает людям улучшать спортив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16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6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442800" y="1266840"/>
            <a:ext cx="83059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. Радостное настроение от улучшения своих спортивных результатов, ощущение энергии и здоровья, использование обуви, которая ассоциируется с известными спортсме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. Сильный, мужественный человек, который выбирает лучшее в обуви, одежде и во всем остальном. Он заботится о своем здоровье, стремится к совершенству, готов к иннов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е потребителя и бренда. Дружеское общение с сильным, мужественным человеком, «Я доверяю его выбору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22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6108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533520" y="1281240"/>
            <a:ext cx="830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. Разработанные в Орегоне шип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. Логотип (стилизованное изображение пера богини победы Ник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. Компания, связанная с атлетами и поддерживающая их виды спо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. Авторитетные потребители или эксперты, использование в рекламе известных спортсме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80" y="16164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ес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341360"/>
            <a:ext cx="8136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есный товарный знак –  это слова, сочетания букв, имеющие словесный характер, словосочетания, предложения, другие единицы языка, а также их  соче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3908520"/>
            <a:ext cx="65530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TE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Кера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teka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Любимый сад»  «Три богаты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815832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29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800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4788000" y="102708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ust do i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11" descr="nike2"/>
          <p:cNvPicPr/>
          <p:nvPr/>
        </p:nvPicPr>
        <p:blipFill>
          <a:blip r:embed="rId2"/>
          <a:stretch/>
        </p:blipFill>
        <p:spPr>
          <a:xfrm>
            <a:off x="250920" y="3789360"/>
            <a:ext cx="2592360" cy="2363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2" descr="nike4"/>
          <p:cNvPicPr/>
          <p:nvPr/>
        </p:nvPicPr>
        <p:blipFill>
          <a:blip r:embed="rId3"/>
          <a:stretch/>
        </p:blipFill>
        <p:spPr>
          <a:xfrm>
            <a:off x="324000" y="1197000"/>
            <a:ext cx="2463480" cy="2127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4" descr="nike7"/>
          <p:cNvPicPr/>
          <p:nvPr/>
        </p:nvPicPr>
        <p:blipFill>
          <a:blip r:embed="rId4"/>
          <a:stretch/>
        </p:blipFill>
        <p:spPr>
          <a:xfrm>
            <a:off x="3348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080" y="115560"/>
            <a:ext cx="4859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ф-Колесо»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5338800" y="2009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е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0"/>
          <p:cNvGrpSpPr/>
          <p:nvPr/>
        </p:nvGrpSpPr>
        <p:grpSpPr>
          <a:xfrm>
            <a:off x="179280" y="1052640"/>
            <a:ext cx="8569440" cy="4032000"/>
            <a:chOff x="179280" y="1052640"/>
            <a:chExt cx="8569440" cy="4032000"/>
          </a:xfrm>
        </p:grpSpPr>
        <p:sp>
          <p:nvSpPr>
            <p:cNvPr id="942" name="Oval 5"/>
            <p:cNvSpPr/>
            <p:nvPr/>
          </p:nvSpPr>
          <p:spPr>
            <a:xfrm>
              <a:off x="179280" y="1052640"/>
              <a:ext cx="4321440" cy="40320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"/>
            <p:cNvSpPr/>
            <p:nvPr/>
          </p:nvSpPr>
          <p:spPr>
            <a:xfrm>
              <a:off x="5364000" y="232236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циональные выг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5312160" y="261936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ис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5356800" y="28908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9"/>
            <p:cNvSpPr/>
            <p:nvPr/>
          </p:nvSpPr>
          <p:spPr>
            <a:xfrm>
              <a:off x="708120" y="1618920"/>
              <a:ext cx="3200400" cy="2895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0"/>
            <p:cNvSpPr/>
            <p:nvPr/>
          </p:nvSpPr>
          <p:spPr>
            <a:xfrm>
              <a:off x="1116000" y="2027160"/>
              <a:ext cx="2303640" cy="21585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1"/>
            <p:cNvSpPr/>
            <p:nvPr/>
          </p:nvSpPr>
          <p:spPr>
            <a:xfrm>
              <a:off x="1469880" y="2381040"/>
              <a:ext cx="1600200" cy="14475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2"/>
            <p:cNvSpPr/>
            <p:nvPr/>
          </p:nvSpPr>
          <p:spPr>
            <a:xfrm>
              <a:off x="1763640" y="2639880"/>
              <a:ext cx="990720" cy="914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3"/>
            <p:cNvSpPr/>
            <p:nvPr/>
          </p:nvSpPr>
          <p:spPr>
            <a:xfrm>
              <a:off x="5338800" y="174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зицио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4"/>
            <p:cNvSpPr/>
            <p:nvPr/>
          </p:nvSpPr>
          <p:spPr>
            <a:xfrm flipH="1">
              <a:off x="2195280" y="281916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5"/>
            <p:cNvSpPr/>
            <p:nvPr/>
          </p:nvSpPr>
          <p:spPr>
            <a:xfrm flipH="1">
              <a:off x="2195280" y="2530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6"/>
            <p:cNvSpPr/>
            <p:nvPr/>
          </p:nvSpPr>
          <p:spPr>
            <a:xfrm flipH="1">
              <a:off x="2195280" y="2233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7"/>
            <p:cNvSpPr/>
            <p:nvPr/>
          </p:nvSpPr>
          <p:spPr>
            <a:xfrm flipH="1">
              <a:off x="2195280" y="137772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8"/>
            <p:cNvSpPr/>
            <p:nvPr/>
          </p:nvSpPr>
          <p:spPr>
            <a:xfrm flipH="1">
              <a:off x="2195280" y="19256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2076480" y="2928960"/>
              <a:ext cx="360360" cy="360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1"/>
            <p:cNvSpPr/>
            <p:nvPr/>
          </p:nvSpPr>
          <p:spPr>
            <a:xfrm flipH="1">
              <a:off x="2195280" y="3106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2"/>
            <p:cNvSpPr/>
            <p:nvPr/>
          </p:nvSpPr>
          <p:spPr>
            <a:xfrm>
              <a:off x="5364000" y="116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ура брен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23"/>
          <p:cNvSpPr/>
          <p:nvPr/>
        </p:nvSpPr>
        <p:spPr>
          <a:xfrm>
            <a:off x="4896000" y="364500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ура брен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50920" y="5157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технического задания добавляются: целевая аудитория, портрет типичного потребителя, портрет бренда как личности, взаимоотношения типичного потребителя и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132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пред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457200" y="1949400"/>
            <a:ext cx="8305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идж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, который сложил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знании потребителей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вы разработал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мидж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сложился в сознании потребителей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79280" y="1123920"/>
            <a:ext cx="3961080" cy="936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Образ брен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5364000" y="1125360"/>
            <a:ext cx="3529080" cy="1008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179280" y="2087640"/>
            <a:ext cx="360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водителя. Позиционирование по атрибуту «управляемос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8" descr="2"/>
          <p:cNvPicPr/>
          <p:nvPr/>
        </p:nvPicPr>
        <p:blipFill>
          <a:blip r:embed="rId1"/>
          <a:stretch/>
        </p:blipFill>
        <p:spPr>
          <a:xfrm>
            <a:off x="179280" y="3537000"/>
            <a:ext cx="3384720" cy="2487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9" descr="1"/>
          <p:cNvPicPr/>
          <p:nvPr/>
        </p:nvPicPr>
        <p:blipFill>
          <a:blip r:embed="rId2"/>
          <a:stretch/>
        </p:blipFill>
        <p:spPr>
          <a:xfrm>
            <a:off x="3780000" y="19890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10"/>
          <p:cNvSpPr/>
          <p:nvPr/>
        </p:nvSpPr>
        <p:spPr>
          <a:xfrm>
            <a:off x="5508720" y="2060640"/>
            <a:ext cx="345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банди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зиционирование по атрибуту «крутизна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1" descr="Бумер"/>
          <p:cNvPicPr/>
          <p:nvPr/>
        </p:nvPicPr>
        <p:blipFill>
          <a:blip r:embed="rId3"/>
          <a:stretch/>
        </p:blipFill>
        <p:spPr>
          <a:xfrm>
            <a:off x="5508720" y="3537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Рисунок 6" descr=""/>
          <p:cNvPicPr/>
          <p:nvPr/>
        </p:nvPicPr>
        <p:blipFill>
          <a:blip r:embed="rId4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зменение образа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5"/>
          <p:cNvSpPr/>
          <p:nvPr/>
        </p:nvSpPr>
        <p:spPr>
          <a:xfrm>
            <a:off x="457200" y="10414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енное изменение образа бренда может привести к разрушительным для бренда последствиям. Однако существуют ситуации, в которых необходимо проводить коррекцию образа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ричины коррекции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33520" y="3076560"/>
            <a:ext cx="830556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плохо или недостаточно целостно прод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не отвечает изменениям рынка, изменениям вкусов потребителей, появлениям новых конкурентов и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обращен к ограниченному ры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«наскучил» потребителям или стал старом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1143000"/>
            <a:ext cx="813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  – это изображения живых существ, предметов, природных и иных объектов, а также фигуры  любых форм, композиции линий, пятен фигур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" y="17280"/>
            <a:ext cx="7667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009960" y="3733920"/>
            <a:ext cx="13510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67652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1579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7010280" y="3581280"/>
            <a:ext cx="13338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371600" y="99072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останция «Европа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о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47920" y="191628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жигалк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p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219320" y="2827440"/>
            <a:ext cx="670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ая систем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ка-кола"/>
          <p:cNvPicPr/>
          <p:nvPr/>
        </p:nvPicPr>
        <p:blipFill>
          <a:blip r:embed="rId1"/>
          <a:stretch/>
        </p:blipFill>
        <p:spPr>
          <a:xfrm>
            <a:off x="2133720" y="1981080"/>
            <a:ext cx="1747800" cy="4038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8600" y="106992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й товарный знак – это трехмерные объекты, фигуры, линии а также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-57240"/>
            <a:ext cx="7924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but"/>
          <p:cNvPicPr/>
          <p:nvPr/>
        </p:nvPicPr>
        <p:blipFill>
          <a:blip r:embed="rId2"/>
          <a:stretch/>
        </p:blipFill>
        <p:spPr>
          <a:xfrm>
            <a:off x="5075280" y="1905120"/>
            <a:ext cx="144144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3"/>
          <a:stretch/>
        </p:blipFill>
        <p:spPr>
          <a:xfrm>
            <a:off x="8101080" y="6324480"/>
            <a:ext cx="10429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1052640"/>
            <a:ext cx="708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 – это комбинация элементов разного характера изобразительных, словесных, объемных и зву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57240"/>
            <a:ext cx="79250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24240" cy="120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908000" y="4869000"/>
            <a:ext cx="2343240" cy="120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1506240" cy="165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4"/>
          <a:stretch/>
        </p:blipFill>
        <p:spPr>
          <a:xfrm>
            <a:off x="5724360" y="3068640"/>
            <a:ext cx="1951200" cy="1403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5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46376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ое наименование – это название предприятия, которое индивидуализирует организацию, носит бессрочный характер и регистрируется в государственном органе по регистрации юридических лиц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этим органом является налоговая инспекци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ое наиме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restroika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2506680"/>
          </a:xfrm>
          <a:prstGeom prst="rect">
            <a:avLst/>
          </a:prstGeom>
          <a:ln w="0">
            <a:noFill/>
          </a:ln>
        </p:spPr>
      </p:pic>
      <p:sp>
        <p:nvSpPr>
          <p:cNvPr id="179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отип – словесно-изобразительный знак, то есть логотип – это словесный товарный знак, написанный каким-либо характерным, специально  подобранным или специально разработанным шриф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476360" y="4648320"/>
            <a:ext cx="4876560" cy="1295280"/>
            <a:chOff x="1476360" y="4648320"/>
            <a:chExt cx="4876560" cy="1295280"/>
          </a:xfrm>
        </p:grpSpPr>
        <p:pic>
          <p:nvPicPr>
            <p:cNvPr id="182" name="Picture 6" descr="Fotolend"/>
            <p:cNvPicPr/>
            <p:nvPr/>
          </p:nvPicPr>
          <p:blipFill>
            <a:blip r:embed="rId2"/>
            <a:stretch/>
          </p:blipFill>
          <p:spPr>
            <a:xfrm>
              <a:off x="1628640" y="4870440"/>
              <a:ext cx="47242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7"/>
            <p:cNvSpPr/>
            <p:nvPr/>
          </p:nvSpPr>
          <p:spPr>
            <a:xfrm>
              <a:off x="1476360" y="4648320"/>
              <a:ext cx="1295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"/>
          <p:cNvPicPr/>
          <p:nvPr/>
        </p:nvPicPr>
        <p:blipFill>
          <a:blip r:embed="rId3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60280"/>
            <a:ext cx="8713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План лек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Историческое развитие взглядов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а роль рекла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пределение основных термино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 сфере брендин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омплексный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8016840" y="6200640"/>
            <a:ext cx="112716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94284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а – изобразительный товарный знак, не содержащ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ы представляют собой рисунки разнообразных тем: символы, орнаменты, изображения животных и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0" descr="Fotolend"/>
          <p:cNvPicPr/>
          <p:nvPr/>
        </p:nvPicPr>
        <p:blipFill>
          <a:blip r:embed="rId2"/>
          <a:stretch/>
        </p:blipFill>
        <p:spPr>
          <a:xfrm>
            <a:off x="2882880" y="4211640"/>
            <a:ext cx="3921120" cy="801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3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1209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рменный блок – комбинация логотипа и эм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otolend"/>
          <p:cNvPicPr/>
          <p:nvPr/>
        </p:nvPicPr>
        <p:blipFill>
          <a:blip r:embed="rId1"/>
          <a:stretch/>
        </p:blipFill>
        <p:spPr>
          <a:xfrm>
            <a:off x="1371600" y="2276640"/>
            <a:ext cx="5943600" cy="1214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429264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фирменный блок тоже называют логотипом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много чего называют логотип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товарного зна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0920" y="2798640"/>
            <a:ext cx="8713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телем исключительного права на товарный знак (правообладателем) може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14400" y="3751200"/>
            <a:ext cx="73915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ридическ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щ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нимательскую деятельность физическое лицо (частный предпринимат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5680" y="51577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ключительное право на товарный знак означает, что только владелец товарного знака вправе использовать его сам и разрешать или запрещать использовать знак другим л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0808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страцией товарных знаков в России занимается Федеральный орган исполнительной власти по интеллектуальной собственности Федеральная служба по интеллектуальной собственности, патентам и товарным знакам (ФСИ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50920" y="1044720"/>
            <a:ext cx="87138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все то, что знают и думают о нем, все чего ожидают от него  потребите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з, вызываемый товарным знаком в сознании покуп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набор «обещаний» и образов, возникающих в сознании потребителей и формирующих у них убеждение, что данная торговая марка «лучше», чем аналогичные торговые марки, предлагаемые  конкурен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 ассоциаций, связанный в сознании с определенным товарным знаком и влияющий на выбор потреб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вары создаются на фабриках, товарные зна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зайн-студиях, а торговые марки – в сознании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5800" y="1238400"/>
            <a:ext cx="79246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ерцеп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ая реакция непроизвольного припомина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 сталкивается с товарным знаком и именно он запускает процесс «активизации» представлений потребителя об этом товаре, заложенным всем его предшествующим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пперцепция – это то, что на самом деле связывает торговую марку (совокупность представлений) и товарны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8172360" y="6375240"/>
            <a:ext cx="9748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57200" y="1828800"/>
            <a:ext cx="8153280" cy="3809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143000" y="990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638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 (бренд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7391520" y="4647960"/>
            <a:ext cx="0" cy="10666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892160" y="2209680"/>
            <a:ext cx="64008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бывают шестисо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ая машина для полицей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кая крутая тачка, на которой ездят новые 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 часто сталкиваются «горбатые запорожц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очти не ломается, но дорог в обслуж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 комфортабельная, но тяжелая и «угрюм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у назвали именем дочери хозяина за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mercedes"/>
          <p:cNvPicPr/>
          <p:nvPr/>
        </p:nvPicPr>
        <p:blipFill>
          <a:blip r:embed="rId1"/>
          <a:stretch/>
        </p:blipFill>
        <p:spPr>
          <a:xfrm>
            <a:off x="1295280" y="3276720"/>
            <a:ext cx="390600" cy="398520"/>
          </a:xfrm>
          <a:prstGeom prst="rect">
            <a:avLst/>
          </a:prstGeom>
          <a:ln w="0">
            <a:noFill/>
          </a:ln>
        </p:spPr>
      </p:pic>
      <p:sp>
        <p:nvSpPr>
          <p:cNvPr id="233" name="Line 11"/>
          <p:cNvSpPr/>
          <p:nvPr/>
        </p:nvSpPr>
        <p:spPr>
          <a:xfrm>
            <a:off x="1523880" y="1600200"/>
            <a:ext cx="0" cy="15238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функции торговой мар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14400" y="1300320"/>
            <a:ext cx="73915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 компаний и их товаров среди других компаний и товаров конкур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понимания потребителем товара ил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дуры выбора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бизн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расширения бизнеса на другие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8166240" y="6375240"/>
            <a:ext cx="97632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3352680"/>
            <a:ext cx="7696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ценкам «Financial World», в 1994 году торговая марка «Coca-Cola» являлась самой ценной в мире и стоила примерно 36 млрд. доллар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.в.стоимость этой торговой марки превысила 78 млрд. долл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40" y="30312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4360" y="4132440"/>
            <a:ext cx="7696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ег Тиньков продал свою пивоваренную компанию «Тинькофф» компании InBev S.A. за 201 млн. долларов, оставив за собой сеть из 10 одноименных рестор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инькофф1"/>
          <p:cNvPicPr/>
          <p:nvPr/>
        </p:nvPicPr>
        <p:blipFill>
          <a:blip r:embed="rId1"/>
          <a:stretch/>
        </p:blipFill>
        <p:spPr>
          <a:xfrm>
            <a:off x="1116000" y="1197000"/>
            <a:ext cx="278604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Тиньков1"/>
          <p:cNvPicPr/>
          <p:nvPr/>
        </p:nvPicPr>
        <p:blipFill>
          <a:blip r:embed="rId2"/>
          <a:stretch/>
        </p:blipFill>
        <p:spPr>
          <a:xfrm>
            <a:off x="4643280" y="14796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3"/>
          <a:stretch/>
        </p:blipFill>
        <p:spPr>
          <a:xfrm>
            <a:off x="817236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5280" y="1828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Н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АЯ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4480" y="1166760"/>
            <a:ext cx="892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разница между терминами «торговая марка» и «бренд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0880" y="2743200"/>
            <a:ext cx="85122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«сильной» торговой м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названия (зарегистрированного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графического ре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аточно широкая «география» дистрибу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ние значительной долей ры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осведомл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«весомой» группы лояльных потреб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8166240" y="6369120"/>
            <a:ext cx="97452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79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Историческое развитие взглядов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ль рекл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8101080" y="6411960"/>
            <a:ext cx="8506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ренд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«мысленный ярлык», который «наклеивают» на товар потребители, и тот смысл, который вкладывают в него сами создатели бренд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8762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лассификация торговых ма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84360" y="1484280"/>
            <a:ext cx="8351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brand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psi, Volvo, Smirn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едераль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алтика, Беседа, Флаг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on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бластная ТМ Аксинья Ростовска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ТМ, еще не набравшая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80880" y="1766880"/>
            <a:ext cx="84582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-MANAGE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RAND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8172360" y="635472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ренд-менеджмент – э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е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онирование и репозициониров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новление и изменение стадии развития бренда (ребрендинг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ение и углубление брен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-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8169120" y="6270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е культуры бренд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80880" y="1341360"/>
            <a:ext cx="83822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вропейская (запад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дифференциации това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придани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тличительных особенностей с целью завоевания преимущества перед конкурент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ярким примером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ультур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являетс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мпания 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тер энд Гэмб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», котора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набор бр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в в каждой категории продукто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йд, Блендамед, Фэри,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вэйз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зиатская (восточ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инвести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ани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 в первую очередь на уровне корпорации и лишь во вторую очередь, в гораздо меньшей степени, на уровне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овар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, в Японии, торговая марка товара без гарантии корпоративной марки фирмы вообще не стала бы покупаться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50920" y="1263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рен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4000" y="300672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ет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це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правленный на удовлетворение потребностей и желаний людей и организаций путем обеспечения свободного конкурентного обмена товарами и услугами, представляющими ценность для покупател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ендинг следует рассматривать в качестве управленческой технологии, включающей элементы как маркетинга, так и менеджмен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373040"/>
          <a:ext cx="8458200" cy="464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енд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рын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с потреб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чная доля, объем 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яльность потребителей бре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и в одной товарной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остави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ка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эффективност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даж товара, рост доли покуп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количества лояльных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коммуник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епление отношений потребителя с брен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459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8000" y="1479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создания бренда – его способность увеличивать разницу между себестоимостью и продажной ценой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39680" y="321300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предпочитают наиболее гармоничный и понятный бренд, несмотря на то, что качество товара у конкурента с менее понятным брендом может быть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7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471760" y="1265400"/>
            <a:ext cx="41911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700360" y="1341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е продаж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95240" y="2332080"/>
            <a:ext cx="3200400" cy="1676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7156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871560" y="294156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обусловленные удобством приобретения, ценой,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376880" y="233208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45284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4452840" y="29415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генерируемые бре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277668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635796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87156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47880" y="47703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про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47880" y="52275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генерируемые текущей рекл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437688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452840" y="4770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4452840" y="5151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на основе внутренней мотивации потребителей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я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бре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3386160" y="4237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 flipV="1">
            <a:off x="6053040" y="4008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33861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70437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616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0-е – 40-е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031760"/>
            <a:ext cx="40384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стимулировать продажи, во многих случаях – продавать на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должна привлекать максимальное количество непосредственных откликов потребителей (купоны, запросы и так дал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opkins"/>
          <p:cNvPicPr/>
          <p:nvPr/>
        </p:nvPicPr>
        <p:blipFill>
          <a:blip r:embed="rId1"/>
          <a:stretch/>
        </p:blipFill>
        <p:spPr>
          <a:xfrm>
            <a:off x="7253280" y="1600200"/>
            <a:ext cx="15526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schlitz"/>
          <p:cNvPicPr/>
          <p:nvPr/>
        </p:nvPicPr>
        <p:blipFill>
          <a:blip r:embed="rId2"/>
          <a:stretch/>
        </p:blipFill>
        <p:spPr>
          <a:xfrm>
            <a:off x="4572000" y="1600200"/>
            <a:ext cx="25113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7238880" y="3911760"/>
            <a:ext cx="16002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Клод Хопкинс – самый известный рекламист 1920-х – 30-х годов, автор книги «Научная Реклама» (1928). Апологет строго аргументированного, убеждающего тек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8139240" y="6346800"/>
            <a:ext cx="100476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9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– борьба за увеличение лояльных потреби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04920" y="136512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треблении любого товара действует правило Парето: 20% пользователей потребляет 80% всего объ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ода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постоянных покупателей на 5% увеличивает общий объем продаж более чем на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опыт свидетельствует: чтобы продать единицу товара, продавцу требуется не менее 10 обращений к новым потенциальным покупателям, и лишь 2-3 обращения к уже существу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татистический потребитель, разочарованный в торговой марке, расскажет об этом еще 10 потенциальным потребителям этой торговой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8172360" y="6381720"/>
            <a:ext cx="9748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580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 бренда, рекламу, упаковку, фирменный знак, логотип, персонажей бренда, собственные коммуникации и т.д.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характеристики, приписываемые бренду потребителем, должны быть уникальными, непохожими на характеристики брендов-конкурен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36360" y="71280"/>
            <a:ext cx="64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призна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8169120" y="634356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9410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я совокупность характеристик идентичности бренда подразделяю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28560" y="2157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ещ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те свойства товара, которые позволят покупателю получить определенную пользу и выгод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жи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каким хотел бы видеть бренд потребитель и какую пользу он ожидает от него получи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дтверж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ызывающие положительные эмоции в процессе взаимодействия потребителя и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рким примером подобной идентичности является реклама водки 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которая обладает только ей присущими качествами, которую невозможно спутать ни с одним другим рекламируемым това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обные характеристики рекламы способствуют формированию идентичности и са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8101080" y="625968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 Маркетинговые креативные коммуникационные конста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9280" y="1700280"/>
            <a:ext cx="8640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 (МККК) - элемент системы фирменных идентифицирующих маркетинговых коммуникаций, отличающихся от элементов фирменного стиля значительно меньшей формализованность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8028000" y="625644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тиль является внешним отражением имиджа фирмы. Его главная задача – визуализация и идентификация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слога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бразы корпоративных герое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стоянные коммуника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фирменный гим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орпоративная легенда (фирменная байка) и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нструменты 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7970760" y="627228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логан представляет собой постоянно используемый фирменный оригинальный девиз. Некоторые слоганы регистрируются как товарные зна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ло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" descr=""/>
          <p:cNvPicPr/>
          <p:nvPr/>
        </p:nvPicPr>
        <p:blipFill>
          <a:blip r:embed="rId1"/>
          <a:stretch/>
        </p:blipFill>
        <p:spPr>
          <a:xfrm>
            <a:off x="7970760" y="633564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одной стороны – важная часть формируемого имиджа фирмы, с другой – инструмент МК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тор как бы персонифицирует сам себя, разрабатывая постоянный, устойчивый образ представителя, посредника (коммуниканта) в коммуникациях с целевой аудитори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6"/>
          <p:cNvSpPr/>
          <p:nvPr/>
        </p:nvSpPr>
        <p:spPr>
          <a:xfrm>
            <a:off x="1187280" y="1197000"/>
            <a:ext cx="54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8166240" y="631188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1295280"/>
            <a:ext cx="4038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и донести до потребителя УТ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Торгов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утверждает потребителя в мысли, что товар имеет важную уникальную особ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972480" y="1371600"/>
            <a:ext cx="18288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оссер Ривз – автор книги «Реальность в рекламе» (1956). Разработал концепцию «Уникального торгового предложения». Самая известная работа:  президентская кампания Эйзенхауэ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eves1"/>
          <p:cNvPicPr/>
          <p:nvPr/>
        </p:nvPicPr>
        <p:blipFill>
          <a:blip r:embed="rId1"/>
          <a:stretch/>
        </p:blipFill>
        <p:spPr>
          <a:xfrm>
            <a:off x="4648320" y="1371600"/>
            <a:ext cx="213336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7" descr="ikepromo"/>
          <p:cNvPicPr/>
          <p:nvPr/>
        </p:nvPicPr>
        <p:blipFill>
          <a:blip r:embed="rId2"/>
          <a:stretch/>
        </p:blipFill>
        <p:spPr>
          <a:xfrm>
            <a:off x="4648320" y="3048120"/>
            <a:ext cx="4190760" cy="30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0-е –60-е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3"/>
          <a:stretch/>
        </p:blipFill>
        <p:spPr>
          <a:xfrm>
            <a:off x="8172360" y="6337440"/>
            <a:ext cx="9716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о КГ наделяется некоторыми чертами, которые коммуникатор стремится включить а свой имидж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ак, огромный рыжий клоун Рональд Макдональд должен олицетворять в глазах маленьких посетителей сет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мидж этих ресторанов, включающий по воле его создателей элементы веселого праздника с подарками, представлениями и т.п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тал самым узнаваемым вымышленным персонажем, уступающим только Санта-Клаус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гда коммуникаторы используют известность того или иного персонажа в качестве корпоративных героев персонажей мультфильм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Тако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договор был заключен компанией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errero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производителем шоколадных лакомств-игрушек 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inder Surprise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», с создателями фильма «Ледниковый период-4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8028000" y="628344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КГ является реальным лицом. Это конкретный человек, который избран фирмой в качестве посредника в ее коммуникациях с адресатом («лицо компании», «бренд-имидж», «икона фирмы»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1548720" y="1268280"/>
            <a:ext cx="39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8143920" y="626760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иво «Балтика» имеет в качестве постоянного коммуниканта режиссера и актера Федора Бондарчука. Очевидно, что целью этого сотрудничества было придание имиджу пива таких черт, как успешность, благосостояние, харизматичность и д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8028000" y="625320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47640" y="2421000"/>
            <a:ext cx="597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4. 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8101080" y="63626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920880" y="1620360"/>
            <a:ext cx="8136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Информирование аудитор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4360" y="2276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нно реклама благодаря широкому охвату (особенно ТВ-реклама) и возможности многократного повторения в течение короткого промежутка времени позволяет успешно решить проблемы инфор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826920" y="981000"/>
            <a:ext cx="62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987480" y="4710240"/>
            <a:ext cx="47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Запоминание реклам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" descr=""/>
          <p:cNvPicPr/>
          <p:nvPr/>
        </p:nvPicPr>
        <p:blipFill>
          <a:blip r:embed="rId1"/>
          <a:stretch/>
        </p:blipFill>
        <p:spPr>
          <a:xfrm>
            <a:off x="8116920" y="634680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1476360" y="120600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Формирование осведомленнос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0840" y="2276280"/>
            <a:ext cx="87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ение в сознание покупателя имени брен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оставление предварительной информации о пози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бренд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8156520" y="6362640"/>
            <a:ext cx="97632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8560" y="2481120"/>
            <a:ext cx="78868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ъективность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авдивост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324000" y="11592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539640" y="119700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требования к рекламе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8169120" y="6399360"/>
            <a:ext cx="9748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6836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ет несколько моделей иерархии коммуникационных целей в рамках бренд-менеджмент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56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227240"/>
            <a:ext cx="804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«коммуникационной пирами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284292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мериканские профессора Кортленд Бове и Уильям Аренс представили иерархическую систему целей маркетинговых коммуникаций в виде пирами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8028000" y="6377040"/>
            <a:ext cx="97632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1125360"/>
            <a:ext cx="419076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и донести до потребителя уникальный образ марки, УЭ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Эмоциональн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потребителя ощущение эмоциональной связи с брендом, понимание его «харак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rnbach"/>
          <p:cNvPicPr/>
          <p:nvPr/>
        </p:nvPicPr>
        <p:blipFill>
          <a:blip r:embed="rId1"/>
          <a:stretch/>
        </p:blipFill>
        <p:spPr>
          <a:xfrm>
            <a:off x="4648320" y="1365120"/>
            <a:ext cx="103500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ogilvy1"/>
          <p:cNvPicPr/>
          <p:nvPr/>
        </p:nvPicPr>
        <p:blipFill>
          <a:blip r:embed="rId2"/>
          <a:stretch/>
        </p:blipFill>
        <p:spPr>
          <a:xfrm>
            <a:off x="7669080" y="1365120"/>
            <a:ext cx="1255680" cy="13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athaway"/>
          <p:cNvPicPr/>
          <p:nvPr/>
        </p:nvPicPr>
        <p:blipFill>
          <a:blip r:embed="rId3"/>
          <a:stretch/>
        </p:blipFill>
        <p:spPr>
          <a:xfrm>
            <a:off x="6864480" y="2743200"/>
            <a:ext cx="21272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796000" y="1371600"/>
            <a:ext cx="1755720" cy="115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Билл Бернбах (слева) и Дэвид Огилви – самые яркие рекламисты конца 50-х – 60-х г. г. Стремились создавать рекламируемым брендам неповторимый имидж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41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 50-х годов – 70-е го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VW_01"/>
          <p:cNvPicPr/>
          <p:nvPr/>
        </p:nvPicPr>
        <p:blipFill>
          <a:blip r:embed="rId4"/>
          <a:stretch/>
        </p:blipFill>
        <p:spPr>
          <a:xfrm>
            <a:off x="4643280" y="2759040"/>
            <a:ext cx="2022480" cy="2819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8174160" y="6402240"/>
            <a:ext cx="96984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7400" y="1525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Фундаментом коммуникационной пирамиды являетс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Следующая высокая ступень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4. Предпочт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 коммуницируемому това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3. Жел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ладать товар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2. Убежд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необходимости покуп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1. Побуждение к активному действ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непосредственно к осуществлению покуп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1" descr=""/>
          <p:cNvPicPr/>
          <p:nvPr/>
        </p:nvPicPr>
        <p:blipFill>
          <a:blip r:embed="rId1"/>
          <a:stretch/>
        </p:blipFill>
        <p:spPr>
          <a:xfrm>
            <a:off x="8132760" y="6350040"/>
            <a:ext cx="97488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Объект 3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4"/>
          <p:cNvSpPr/>
          <p:nvPr/>
        </p:nvSpPr>
        <p:spPr>
          <a:xfrm>
            <a:off x="179280" y="5099040"/>
            <a:ext cx="91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добной логикой основных этапов влияния будет осуществляться и рекламная деятельность в процессе формирования и развит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468360" y="2602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хема иерархии коммуникационны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7"/>
          <p:cNvCxnSpPr/>
          <p:nvPr/>
        </p:nvCxnSpPr>
        <p:spPr>
          <a:xfrm flipV="1">
            <a:off x="4066920" y="1483560"/>
            <a:ext cx="1080" cy="302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57" name="Рисунок 1" descr=""/>
          <p:cNvPicPr/>
          <p:nvPr/>
        </p:nvPicPr>
        <p:blipFill>
          <a:blip r:embed="rId2"/>
          <a:stretch/>
        </p:blipFill>
        <p:spPr>
          <a:xfrm>
            <a:off x="8028000" y="6343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H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83808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ложена американским специалистом Скоттом Дэвисом (название сформировано из начальных букв английских слов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иман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бная покупка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ia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овольств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динств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омендации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1" descr=""/>
          <p:cNvPicPr/>
          <p:nvPr/>
        </p:nvPicPr>
        <p:blipFill>
          <a:blip r:embed="rId1"/>
          <a:stretch/>
        </p:blipFill>
        <p:spPr>
          <a:xfrm>
            <a:off x="8123400" y="6408720"/>
            <a:ext cx="97452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 проблем на этой стадии приводит к достижению главной цели бренд-менеджмента – сформированной лояльности покупателя, обеспечению повторных покупо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1" descr=""/>
          <p:cNvPicPr/>
          <p:nvPr/>
        </p:nvPicPr>
        <p:blipFill>
          <a:blip r:embed="rId1"/>
          <a:stretch/>
        </p:blipFill>
        <p:spPr>
          <a:xfrm>
            <a:off x="8147160" y="63579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7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ояльный потреб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09520" y="124776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й потребитель – это потребитель, который предпочитает одну торговую марку другим аналогичным торговым мар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380880" y="2971800"/>
            <a:ext cx="8001000" cy="2868120"/>
            <a:chOff x="380880" y="2971800"/>
            <a:chExt cx="8001000" cy="2868120"/>
          </a:xfrm>
        </p:grpSpPr>
        <p:grpSp>
          <p:nvGrpSpPr>
            <p:cNvPr id="475" name="Group 7"/>
            <p:cNvGrpSpPr/>
            <p:nvPr/>
          </p:nvGrpSpPr>
          <p:grpSpPr>
            <a:xfrm>
              <a:off x="744480" y="3657600"/>
              <a:ext cx="7637400" cy="2182320"/>
              <a:chOff x="744480" y="3657600"/>
              <a:chExt cx="7637400" cy="2182320"/>
            </a:xfrm>
          </p:grpSpPr>
          <p:sp>
            <p:nvSpPr>
              <p:cNvPr id="476" name="Text Box 8"/>
              <p:cNvSpPr/>
              <p:nvPr/>
            </p:nvSpPr>
            <p:spPr>
              <a:xfrm>
                <a:off x="761760" y="3657600"/>
                <a:ext cx="579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Миссионерство»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761760" y="4208760"/>
                <a:ext cx="7620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Бороться и искать, найти и не сдаваться!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0"/>
              <p:cNvSpPr/>
              <p:nvPr/>
            </p:nvSpPr>
            <p:spPr>
              <a:xfrm>
                <a:off x="744480" y="4759560"/>
                <a:ext cx="5638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3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Лучший среди равных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1"/>
              <p:cNvSpPr/>
              <p:nvPr/>
            </p:nvSpPr>
            <p:spPr>
              <a:xfrm>
                <a:off x="761760" y="5349960"/>
                <a:ext cx="5639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4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дин из равных»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12"/>
            <p:cNvSpPr/>
            <p:nvPr/>
          </p:nvSpPr>
          <p:spPr>
            <a:xfrm>
              <a:off x="380880" y="2971800"/>
              <a:ext cx="579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480" indent="-64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тыре уровня лояльности: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246240" y="125424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 «Миссионерство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требляет только  одну торговую марку и готов всем доказывать превосходств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ой марки над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ными торговыми марка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46240" y="31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 «Бороться и искать, найти и не сдаваться!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йдет в другой магазин, если в первом магазине он не нашел необходимой ему торговой м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46240" y="511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760" indent="-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верженцы – лояльные потребители 1-го и 2-го уровн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1" descr=""/>
          <p:cNvPicPr/>
          <p:nvPr/>
        </p:nvPicPr>
        <p:blipFill>
          <a:blip r:embed="rId1"/>
          <a:stretch/>
        </p:blipFill>
        <p:spPr>
          <a:xfrm>
            <a:off x="8158320" y="635004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400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 лояльности. «Лучший среди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в магазине выберет свою торговую марку, но при ее отсутствии он возьмет другую аналогичную торговую мар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5440" y="31417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 лояльности. «Один из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я существует некий набор торговых марок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тор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полностью удовлетворя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магазине он выберет одну торговую марку из этого набо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1" descr=""/>
          <p:cNvPicPr/>
          <p:nvPr/>
        </p:nvPicPr>
        <p:blipFill>
          <a:blip r:embed="rId1"/>
          <a:stretch/>
        </p:blipFill>
        <p:spPr>
          <a:xfrm>
            <a:off x="8169120" y="6386400"/>
            <a:ext cx="97488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9720" y="1690560"/>
            <a:ext cx="7886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Формирование полноценного имиджа бренда с помощью имиджевой реклам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обходимо периодически и своевременно обновлять предложения о ценностях бренда, новых качествах товара и всех остальных характеристик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4920" y="144360"/>
            <a:ext cx="7921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27240" y="1125360"/>
            <a:ext cx="34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Рисунок 1" descr=""/>
          <p:cNvPicPr/>
          <p:nvPr/>
        </p:nvPicPr>
        <p:blipFill>
          <a:blip r:embed="rId1"/>
          <a:stretch/>
        </p:blipFill>
        <p:spPr>
          <a:xfrm>
            <a:off x="8169120" y="6453360"/>
            <a:ext cx="974880" cy="35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31720" y="1267920"/>
            <a:ext cx="7886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Осуществление технологий дифференц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ифференциация бренда из массы многочисленных брендов-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ая стадия дифференциации –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отстройка» от конкурент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 помощью идентифика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8169120" y="63658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108000" y="119700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признаков идентичности                                               бренда: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209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я бренда, упаковка, фирменные конкстан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чувства, которые потребитель связывает с ТМ; признаки, характеризующие качество товар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247680" y="18900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" descr=""/>
          <p:cNvPicPr/>
          <p:nvPr/>
        </p:nvPicPr>
        <p:blipFill>
          <a:blip r:embed="rId1"/>
          <a:stretch/>
        </p:blipFill>
        <p:spPr>
          <a:xfrm>
            <a:off x="8169120" y="6373800"/>
            <a:ext cx="97488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4920" y="1125360"/>
            <a:ext cx="411480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позиционировать бренд, создать для него сообщение, отличающее его от конкурентов в выбранном сегменте рынка и максимально близкое для целевой ауди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Хорошая реклама в нашем сверхкоммуникативном обществе помогает потребителям запомнить торговую марку и причину ее потребления вместо любой другой аналогичной конкурентной торговой мар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6000" y="1138320"/>
            <a:ext cx="1752480" cy="108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жек Траут и Эл Райс – одни из самых известных маркетологов конца ХХ-го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азработали теорию позици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70-е – середина 90-х г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apple02"/>
          <p:cNvPicPr/>
          <p:nvPr/>
        </p:nvPicPr>
        <p:blipFill>
          <a:blip r:embed="rId1"/>
          <a:stretch/>
        </p:blipFill>
        <p:spPr>
          <a:xfrm>
            <a:off x="4572000" y="2852640"/>
            <a:ext cx="4392720" cy="329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айз"/>
          <p:cNvPicPr/>
          <p:nvPr/>
        </p:nvPicPr>
        <p:blipFill>
          <a:blip r:embed="rId2"/>
          <a:stretch/>
        </p:blipFill>
        <p:spPr>
          <a:xfrm>
            <a:off x="5940360" y="1125360"/>
            <a:ext cx="118764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раут"/>
          <p:cNvPicPr/>
          <p:nvPr/>
        </p:nvPicPr>
        <p:blipFill>
          <a:blip r:embed="rId3"/>
          <a:stretch/>
        </p:blipFill>
        <p:spPr>
          <a:xfrm>
            <a:off x="4572000" y="1125360"/>
            <a:ext cx="12049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4"/>
          <a:stretch/>
        </p:blipFill>
        <p:spPr>
          <a:xfrm>
            <a:off x="8101080" y="6369120"/>
            <a:ext cx="104292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Ценности бренд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and values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371600" y="164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четание уникальных свойств марочного товара:  выгоды и блага от его приобрет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68200" y="10944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1" descr=""/>
          <p:cNvPicPr/>
          <p:nvPr/>
        </p:nvPicPr>
        <p:blipFill>
          <a:blip r:embed="rId1"/>
          <a:stretch/>
        </p:blipFill>
        <p:spPr>
          <a:xfrm>
            <a:off x="7970760" y="637236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31720" y="1290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знании потребителя -действия по разработке предложения компании и ее имиджа, направленные на то, чтобы занять обособленное благоприятное положение в сознании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810108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4360" y="1672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никающие в сознании потребителя в процессе коммуникации с брендом и при воспоминании о нем (намеки, подтексты, двойные смыслы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766800" y="1268280"/>
            <a:ext cx="360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. Ассоциации брендa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974520" cy="37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а завися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держание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индивидуальные качеств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циальные качеств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радиции, обычаи, нрав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рхетип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называется мифологией брен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611280" y="1574280"/>
            <a:ext cx="82072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пример, классическая музыка в рекламе ассоциируется с повышенным уровнем духовности, респектабельности, довер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«Coca-Cola» вызывает ассоциации с весельем, сказочным беззаботным миром. Новогодня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этого напитка ассоциируется с Санта-Клаус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1" descr=""/>
          <p:cNvPicPr/>
          <p:nvPr/>
        </p:nvPicPr>
        <p:blipFill>
          <a:blip r:embed="rId1"/>
          <a:stretch/>
        </p:blipFill>
        <p:spPr>
          <a:xfrm>
            <a:off x="8101080" y="6405480"/>
            <a:ext cx="9745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с брендами, формируемые рекламой, могут быть не только позитивны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бренда «Domestos» — одной из лидирующих марок среди чистящих средств на российском рынке — ассоциируется прежде всего с микробами, которые призвано уничтожать данное средство. При этом сформированная отрицательная эмоция настолько сильна, настолько зримо проиллюстрирована, что служит мощным мотивом для пользования «Domestos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8000" y="260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tretch/>
        </p:blipFill>
        <p:spPr>
          <a:xfrm>
            <a:off x="7970760" y="6396120"/>
            <a:ext cx="97488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http://www.domestos.ru/i/index_nav_pic_item_1.jpg"/>
          <p:cNvPicPr/>
          <p:nvPr/>
        </p:nvPicPr>
        <p:blipFill>
          <a:blip r:embed="rId1"/>
          <a:stretch/>
        </p:blipFill>
        <p:spPr>
          <a:xfrm>
            <a:off x="2268360" y="1204920"/>
            <a:ext cx="4294440" cy="481644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6"/>
          <p:cNvSpPr/>
          <p:nvPr/>
        </p:nvSpPr>
        <p:spPr>
          <a:xfrm>
            <a:off x="2268360" y="6012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кроб в рекламе средства «Domest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1" descr=""/>
          <p:cNvPicPr/>
          <p:nvPr/>
        </p:nvPicPr>
        <p:blipFill>
          <a:blip r:embed="rId2"/>
          <a:stretch/>
        </p:blipFill>
        <p:spPr>
          <a:xfrm>
            <a:off x="8097840" y="635004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042920" y="314172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. Персоналия бренда, бренд как челов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1041480" y="209376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индивидуаль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1"/>
          <a:stretch/>
        </p:blipFill>
        <p:spPr>
          <a:xfrm>
            <a:off x="8028000" y="6394320"/>
            <a:ext cx="976320" cy="4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05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5. Комплексный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5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24000" y="1630440"/>
            <a:ext cx="845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бренда – 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абор связанных с брендом устойчивых рациональных, эмоциональных и сенсор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увствен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социаций в сознании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415800" y="379872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 – это многомерный портрет бренда который хотели бы поместить в сознание потребителей разработчики бренд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920" y="1041480"/>
            <a:ext cx="419076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взаимоотношений бренда с его потребителями и «капитализация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целевого потребителя ощущение «своего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58000" y="1155600"/>
            <a:ext cx="1676520" cy="18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эвид Аакер – ведущий мировой специалист в области бренд-менедж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На основе позиционирования разработал теорию создания сильных торговых марок «Система идентичности бренд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aker"/>
          <p:cNvPicPr/>
          <p:nvPr/>
        </p:nvPicPr>
        <p:blipFill>
          <a:blip r:embed="rId1"/>
          <a:stretch/>
        </p:blipFill>
        <p:spPr>
          <a:xfrm>
            <a:off x="5105520" y="1143000"/>
            <a:ext cx="13683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029200" y="3124080"/>
            <a:ext cx="3962520" cy="3048120"/>
            <a:chOff x="5029200" y="3124080"/>
            <a:chExt cx="3962520" cy="3048120"/>
          </a:xfrm>
        </p:grpSpPr>
        <p:pic>
          <p:nvPicPr>
            <p:cNvPr id="95" name="Picture 8" descr="Harley2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3581280" cy="30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Harley1"/>
            <p:cNvPicPr/>
            <p:nvPr/>
          </p:nvPicPr>
          <p:blipFill>
            <a:blip r:embed="rId3"/>
            <a:stretch/>
          </p:blipFill>
          <p:spPr>
            <a:xfrm>
              <a:off x="6858000" y="4673520"/>
              <a:ext cx="2133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8534520" y="4648320"/>
              <a:ext cx="4572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6172200" y="4191120"/>
              <a:ext cx="12952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2" descr="Harley"/>
            <p:cNvPicPr/>
            <p:nvPr/>
          </p:nvPicPr>
          <p:blipFill>
            <a:blip r:embed="rId4"/>
            <a:stretch/>
          </p:blipFill>
          <p:spPr>
            <a:xfrm>
              <a:off x="6261120" y="4267080"/>
              <a:ext cx="114300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едина 90-х годов –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8145360" y="6381720"/>
            <a:ext cx="100008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11280" y="105264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. Необходимос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зва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ующими фактор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97040" y="194472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покупок потребителями происходила с использованием критериев, не значимы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производителя для качеств данного това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могли настойчиво предпочитать товар, объективные качества которого были хуже конкур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47640" y="4581360"/>
            <a:ext cx="779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 в сознании потребителей возникает стихийно или разрабатывается целенаправл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1" descr=""/>
          <p:cNvPicPr/>
          <p:nvPr/>
        </p:nvPicPr>
        <p:blipFill>
          <a:blip r:embed="rId1"/>
          <a:stretch/>
        </p:blipFill>
        <p:spPr>
          <a:xfrm>
            <a:off x="815040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50920" y="2124000"/>
            <a:ext cx="87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го образа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ехнология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торая позволяет целенаправленно разработать или  корректировать целостный образ бренда для внедрения е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57200" y="115884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68360" y="148428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воей сути, 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 бренда –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убоко проработанное техническое задание для разработки рекламных материа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33440" y="3282840"/>
            <a:ext cx="8350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оеобразное «мерило», которое позволяет проверить все рекламные материалы на соответствие их сути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33520" y="1201680"/>
            <a:ext cx="80769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принципы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ое дополнение каждого элемента, для формирования единого (целостного) образа брен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еленность, в первую очередь, на личность потребителя и построение долгосрочных отношений с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внутренних наиболее сильных и отличительных сторон и возможностей торговой марки с наиболее значимыми и востребованными устремлениями, ценностями, потребностями и ожиданиями потреб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60" y="25668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79280" y="128268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каждого бренда набор элементов комплексного образа бренда будет индивидуа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всегда нужен полный комплек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snickers_logo1"/>
          <p:cNvPicPr/>
          <p:nvPr/>
        </p:nvPicPr>
        <p:blipFill>
          <a:blip r:embed="rId1"/>
          <a:stretch/>
        </p:blipFill>
        <p:spPr>
          <a:xfrm>
            <a:off x="2916360" y="3394080"/>
            <a:ext cx="3384360" cy="826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7"/>
          <p:cNvSpPr/>
          <p:nvPr/>
        </p:nvSpPr>
        <p:spPr>
          <a:xfrm>
            <a:off x="3059280" y="450864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" y="1481040"/>
            <a:ext cx="7620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инговая стратегия торговой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конкуренты (конкурентные торговые ма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ие конкурентов на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аудитории, с которыми работают конкур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и рекламные коммуникаци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, связанные с товарам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варительная (минимальная)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57200" y="9810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611280" y="1085760"/>
            <a:ext cx="784836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писания типичного потреб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черты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итуации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атрибуты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музыкаль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ловес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желания и ме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определяющие необходимость потребления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факторы принятия решения о потреблении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влияния на выбор конкретного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принятия решения выбора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04920" y="990720"/>
            <a:ext cx="8381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лет, менеджер, инженер по образованию, зав. отделом в компании по продаже оборудования. Женат на институтской сокурснице, двое детей, жена работает, старший сын учится в институте, а дочь – в девятом классе. Он много работает, ему интересно, он любит свою работу, считает себя квалифицированным профе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оналом. Интересуется кино, иногда ходит в театр. Не ездит постоянно на автомобиле. Любит выехать на шашлыки летом, иногда ездит на рыбалку. Заботится о здоровье, любит много ходить пешком. Предпочитает классический стиль, носит костюмы, пиджаки – ему не нравятся ультрамодные вещи – главное удобство. Под «не-офисную» одежду приобретает классическую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924280"/>
            <a:ext cx="74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 Определение основных терминов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сфере бренд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8172360" y="6373800"/>
            <a:ext cx="97164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304920" y="1422360"/>
            <a:ext cx="83818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стер Ча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, 40-45 лет, работает, среднего достатка, ценит качество, вызывает доверие. Уверенность в голосе, во взгляде и жестикуляция, она тщательно выбирает чай в магазине, идет домой, зная, что купила то, что надо. Дома ее ждет супруг и дети, старший сын – студент, средний сын лет 15-ти, младшая дочь лет 10-ти. Семья живет в 5-ти этажном доме в 3-х комнатной квартире. Ее зовут Шолпан, супруга Серик, старшего сына – Нурлан, среднего сына Ерлан, дочь – А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95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457200" y="1158840"/>
            <a:ext cx="81532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824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981080" y="205740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116000" y="1295280"/>
            <a:ext cx="665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М тов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6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981080" y="235584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тегория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фессионализм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офи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едение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ль одеж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й серв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990720" y="1295280"/>
            <a:ext cx="76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мпании, оказывающей услу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635120" y="1900080"/>
            <a:ext cx="54100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оч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ртимент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ыр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838080" y="12952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нтичн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457200" y="1085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914400" y="19051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бренда 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всеобъемлющая идея и цель существования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08000" y="1079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компании «Ростик’c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 лидером на рынке фаст-фуда за сч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я и одобрения аудиторией разных территориальных рынков бренда «Ростик’с». Для этого мы стремимся быть необходимыми и полезными нашим гостям, и не только соответствовать их пожеланиям, но и предвосхищать их ожи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8000" y="388764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«IKEA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лучшению быта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, предлагая им широкий выбор предметов домашней обстановки, отличающихся современным дизайном и функциональностью, по разумным ценам (большинство людей сможет позволить их себе приобре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rostix"/>
          <p:cNvPicPr/>
          <p:nvPr/>
        </p:nvPicPr>
        <p:blipFill>
          <a:blip r:embed="rId1"/>
          <a:stretch/>
        </p:blipFill>
        <p:spPr>
          <a:xfrm>
            <a:off x="7308720" y="1444680"/>
            <a:ext cx="1440000" cy="831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IKEA1"/>
          <p:cNvPicPr/>
          <p:nvPr/>
        </p:nvPicPr>
        <p:blipFill>
          <a:blip r:embed="rId2"/>
          <a:stretch/>
        </p:blipFill>
        <p:spPr>
          <a:xfrm>
            <a:off x="7093080" y="4365720"/>
            <a:ext cx="1887480" cy="7254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09480" y="4149720"/>
            <a:ext cx="685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рговой мар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делия из кожи, в основном обув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забота о комфорте мужч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Ральф4"/>
          <p:cNvPicPr/>
          <p:nvPr/>
        </p:nvPicPr>
        <p:blipFill>
          <a:blip r:embed="rId1"/>
          <a:stretch/>
        </p:blipFill>
        <p:spPr>
          <a:xfrm>
            <a:off x="7667640" y="443700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609480" y="1341360"/>
            <a:ext cx="662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ссия рекламной группы «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а нестандартной, творческой и, в тоже время, эффективной рекламы, резко повышающую конкурентоспособность наших кли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8" descr="logo"/>
          <p:cNvPicPr/>
          <p:nvPr/>
        </p:nvPicPr>
        <p:blipFill>
          <a:blip r:embed="rId2"/>
          <a:srcRect l="0" t="0" r="51857" b="23849"/>
          <a:stretch/>
        </p:blipFill>
        <p:spPr>
          <a:xfrm>
            <a:off x="7451640" y="1628640"/>
            <a:ext cx="1297080" cy="4986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457200" y="115884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03:42:02Z</dcterms:created>
  <dc:creator>Ю. В. Терентьев</dc:creator>
  <dc:description/>
  <dc:language>en-US</dc:language>
  <cp:lastModifiedBy>ИиК</cp:lastModifiedBy>
  <dcterms:modified xsi:type="dcterms:W3CDTF">2023-03-09T10:29:13Z</dcterms:modified>
  <cp:revision>1099</cp:revision>
  <dc:subject>Комплексный образ бренда</dc:subject>
  <dc:title>Заголовок слайда отсутствует</dc:title>
</cp:coreProperties>
</file>